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2A9-89AD-472D-9294-527E20C33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F5BE-7CC1-4062-B1B6-A420E27C0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BC1-88AC-42CB-AC8C-912D387C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569-01CE-4261-B051-18C9805E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53B-3561-4730-9D14-2CB3DA4E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30D-6FF1-4172-83CE-4AC71527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88A-757D-46F9-BCFB-6D47199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501-71C9-42B7-9FFF-333EAF49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CCF-E1C9-4257-AA4E-7110A311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CA0-5A11-458F-81B3-D9E33D04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BD1-8634-4CE7-BE33-A2273EF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939-60A8-4D8F-AE99-C408BDE7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CB6-EAC0-4E57-BCA8-6C43494C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40F-6830-4B74-8DFA-5C87BC1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AEF0-EDFD-474F-909C-C48F4E80F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53EB-5027-47AC-812C-914A5135C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янва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3EE-E16E-40B3-82D4-4F021BD79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янва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10137960" cy="58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1013796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1-09T05:19:44Z</dcterms:modified>
  <cp:revision>146</cp:revision>
  <dc:subject/>
  <dc:title>Презентация PowerPoint</dc:title>
</cp:coreProperties>
</file>